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7C69-ED3C-498C-8AE9-846C863F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CA3-B9F2-4BAB-BC58-9E0703E3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A94-0052-4FAF-AD7C-D5B2A376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793-79F9-4D43-BF31-5EF89833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F7D-D959-4BE1-8470-9DE44DE6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2F8-15CE-4093-AF7E-7C4E426E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DCE-7184-445F-8F5A-8101121C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34D-5289-47FD-919E-85C09422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993-5359-4FAB-8A24-1FBE8A09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253-B11B-4376-B9D4-C5B84275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ED1-E4BC-4E99-9957-7DEAE82F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57D-5593-4136-B3F0-2C908E9C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8EC0-DBCC-430B-AA20-42145E5D923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916280"/>
            <a:ext cx="86342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ذين أنعم الله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غضوب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ضال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57531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5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679320" y="1125360"/>
            <a:ext cx="8342280" cy="52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56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3"/>
          <a:stretch/>
        </p:blipFill>
        <p:spPr>
          <a:xfrm>
            <a:off x="831960" y="1197000"/>
            <a:ext cx="806292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105520" cy="48240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44640"/>
            <a:ext cx="869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سبحانه أخبر قبل ذلك بأنه رب العا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وان 1"/>
          <p:cNvSpPr/>
          <p:nvPr/>
        </p:nvSpPr>
        <p:spPr>
          <a:xfrm>
            <a:off x="179280" y="342900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ؤمن بأنها من عند الله تعالى وهي اليوم محرفة ومنسوخة ونسخها القرآن الكر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71280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8569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2"/>
          <a:stretch/>
        </p:blipFill>
        <p:spPr>
          <a:xfrm>
            <a:off x="152280" y="981000"/>
            <a:ext cx="8839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اني الكلم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2308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50920" y="249228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يد المدبر للشئ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22200" y="3267000"/>
            <a:ext cx="48974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نصرف العبادة لك وحد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24000" y="463392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نا وأرشدنا ووفقن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5283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يق الواضح الموصل إلى الله وإلى جنت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6021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ملائكتك ، وأنبيائك ، والصديقين ، والشهداء ، والصالحين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وصوف بالرحمة البالغة هو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طاع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عباد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بعد عن أسباب سخط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وردت كلمة (الرب) معرفة بالألف والل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لا تكون إلا لله تعالى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718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لرح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292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(الرحمن) أبلغ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لرحيم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4869000"/>
          <a:ext cx="8642160" cy="1108080"/>
        </p:xfrm>
        <a:graphic>
          <a:graphicData uri="http://schemas.openxmlformats.org/drawingml/2006/table">
            <a:tbl>
              <a:tblPr/>
              <a:tblGrid>
                <a:gridCol w="7313400"/>
                <a:gridCol w="132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السبب أن صفة (الرحمن) أبلغ من (الرحي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لأن الرحمن ذو الرحمة الشاملة لجميع الخلق في الدنيا وللمؤمنين في الاخر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الرحيم ذو الرحمة الخاصة بالمؤمنين يوم القيا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تخصيص الملك بيوم الدين في قوله تعالى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فيه عما عداه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سبحانه أخبر قبل ذلك بأنه رب العالم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عباد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ل الذل لله تعالى مع كمال الح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زام المسلم بأمر به بفعل الطاعات والبعد عن المعاصي التي تحجب القلب وتضعف القل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3645000"/>
            <a:ext cx="8665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تزام المسلم بأمر به بفعل الطاعات والبعد عن المعاصي التي تحجب القلب وتضعف القلب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نال الأجر والثواب من الله تعال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911320" y="1465200"/>
            <a:ext cx="1812960" cy="46836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250920" y="4365720"/>
            <a:ext cx="8665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يل وجوب التزام المسلم بأمر به بفعل الطاعات والبعد عن المعاصي التي تحجب القلب وتضعف القلب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787920" y="4838760"/>
            <a:ext cx="5105160" cy="5349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5373720"/>
            <a:ext cx="8666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ين المقبول عند الله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6093000"/>
            <a:ext cx="8666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غير دين الإسلام من الأديان السماوية الأخر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سخت بعد بعثة محمد صلى الله عليه وسل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484280"/>
            <a:ext cx="8665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دين المقبول عند الله هو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مع الله بيت العبادة والاستقا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لا قيام بالعبادة على الوجه الأكمل إلا بمعونة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415880" y="2049480"/>
            <a:ext cx="741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795840" y="981000"/>
            <a:ext cx="5079960" cy="49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109440" y="1484280"/>
            <a:ext cx="8926560" cy="504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5"/>
          <a:stretch/>
        </p:blipFill>
        <p:spPr>
          <a:xfrm>
            <a:off x="0" y="2708280"/>
            <a:ext cx="549576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6"/>
          <a:stretch/>
        </p:blipFill>
        <p:spPr>
          <a:xfrm>
            <a:off x="109440" y="3719520"/>
            <a:ext cx="5391360" cy="78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7"/>
          <a:stretch/>
        </p:blipFill>
        <p:spPr>
          <a:xfrm>
            <a:off x="1440" y="4653000"/>
            <a:ext cx="5499360" cy="79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8"/>
          <a:stretch/>
        </p:blipFill>
        <p:spPr>
          <a:xfrm>
            <a:off x="971640" y="5661000"/>
            <a:ext cx="441936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